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989B-DD47-49CB-A68E-14FA35A8F2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A990-4393-4BA0-981C-530168585E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07B5-2C96-440A-9055-7CFE3801E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AFC8-65D3-4182-A277-B7D397654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90C9-4660-4978-AC90-E178CD384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30F3-9860-4BE3-B5CB-A5641CECF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40AA-FAD2-4D5A-93CD-5E40A6567C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373B-860C-49A2-A15A-A022EFD1E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9EE2-E0D1-45B2-8AA0-FDA4661B16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67DE-1F35-4696-839E-C23E731CF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E01-38C0-41F8-B682-50BFC6EB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6F7-AADA-4FC1-A886-BB1376D7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1AB-70AA-4D2A-963C-AE99CD1F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176-53D3-4AA2-A464-24933AED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D896-3F40-4838-929D-6972BD66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0761-5BB8-4F57-A686-FD4D47B9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D280-65DA-4C82-8AE2-38EB6744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1B7D-BB2F-49FA-BED8-0A4038F2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B456-78EE-4D07-99A3-019AAF95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1379-3AA8-4784-AF22-3F390A2B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2295-C05C-405B-86F0-3F8DE717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DE3-85E2-4F94-AB01-A2DEB4EA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B52A-FBBA-464B-8C6B-31542BB3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3D88-F8C7-4E6F-B2BA-89FF3264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3BB9-68FC-4B46-AA51-9845A457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189-B557-466E-8857-9A7BF8B0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E3AB-5C27-4786-8018-F2F1A436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A502-F818-401C-8B6E-03920F0B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87468-E9AB-4F48-8C4E-B25C3D56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EA525-E40D-4664-A3AD-3CF4623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2FF8-2040-4851-B202-5D66BD1F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E248-784E-4149-BDB2-8D090944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4AE-498B-437F-A45D-648D0181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D44E-DC17-44EA-9054-4D019571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BC40-6A7F-43B7-B36A-B80CF137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95964-852D-4972-A2DE-C07608EC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677EB-FB59-4AC2-9A74-8A88500A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ADF4-FA2F-4C2F-8A63-C39D1399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1F12-9318-43A7-A47C-B0FBE7F3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3789-853B-42E5-9452-03622E5E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653E6-D545-4850-B3F3-5641921A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C4711-7DCE-4F1A-9DB6-FB6B019F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661B-FCA1-4BA5-BB03-6800661D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683-F2B5-4B03-B6D0-AB9CF09B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10D2-77F3-4F5D-9D36-0A1193A3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E22F-1DB1-4D98-B38F-69E30749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FBB8-E5A0-43B8-BABA-BA554DA9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10C09-4E6B-410D-BCD7-15285E7A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D2B8A-8156-4369-BD08-11A1742D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E6CA-ED89-4C02-A4C9-4014618A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098C-F279-46EF-96F6-6AD10785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A20B5-171D-4BFB-8716-318731CA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C05F3-591D-4074-90D3-DAD5349B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C43-0E4B-49E4-BF4B-18944F33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767-1446-453F-8674-5AA58D9F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E41-AA45-4C6C-8143-2F37E9A9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770-FB15-4A83-878A-D56E5D51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8DC-E57D-4EDC-A103-9151600A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FD00-BFAE-42FF-92EC-2F4EA2F56065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E187-27A7-41D4-A5E1-81289299C13E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FDE6-222D-442F-A594-5AB0435EBE35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E9E1-CC98-40CE-84F1-BE2534B45C77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18ab3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ализация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</a:rPr>
              <a:t>Тема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е стадии выполнения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измен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й контрол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Деятельность по реализации стратегии: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билизация (3-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 и проработка (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ализация преобразований (12-24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овая стратегия предполагает новые критерии работы с клиентами, новые продукты, новые рабочие процессы, новые навыки, новые технологии и новую корпоративную культуру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79280" y="785520"/>
            <a:ext cx="878544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e5e5e"/>
                </a:solidFill>
                <a:latin typeface="Trebuchet MS"/>
              </a:rPr>
              <a:t>Проведение необходимых изменений способствует тому, что на предприятии создаются условия, необходимые для осуществления выбранной стратеги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04040"/>
                </a:solidFill>
                <a:uFillTx/>
                <a:latin typeface="Trebuchet MS"/>
              </a:rPr>
              <a:t>Типы стратегических изменени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альные измен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дикаль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мерен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ычные изме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Последовательность внутренних изменений </a:t>
            </a:r>
            <a:r>
              <a:rPr b="0" lang="ru-RU" sz="3200" spc="-1" strike="noStrike">
                <a:solidFill>
                  <a:srgbClr val="418ab3"/>
                </a:solidFill>
                <a:latin typeface="Trebuchet MS"/>
              </a:rPr>
              <a:t>в </a:t>
            </a: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организации</a:t>
            </a:r>
            <a:endParaRPr b="0" lang="en-US" sz="3200" spc="-1" strike="noStrike">
              <a:solidFill>
                <a:srgbClr val="418ab3"/>
              </a:solidFill>
              <a:latin typeface="Trebuchet MS"/>
            </a:endParaRPr>
          </a:p>
        </p:txBody>
      </p:sp>
      <p:pic>
        <p:nvPicPr>
          <p:cNvPr id="232" name="Picture 2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395280" y="2276640"/>
            <a:ext cx="82011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8920" y="62028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струк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бор той или иной организационной структуры зависит от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мер и степень разнообразия деятельности, присущ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еографическое размещен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намизм внешней сред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, реализуемая предприятием.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120" y="620280"/>
            <a:ext cx="6348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труктурные изменения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это часть организационного процесса, относящегося к изменениям в системе распределения полномочий и ответственности, координации и интеграции деятельности подразделений фирмы, управленческой иерархии и степени централиза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47628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куль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еляют пять факторов, определяющих формирование и применение организационной культуры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ности и убеждения высшего руководст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акция руководства на критические ситу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тношение к работе и стиль поведения руководител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альная база поощрения сотрудник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и отбора, назначения, продвижения и увольнения из орган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3640" y="369360"/>
            <a:ext cx="677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418ab3"/>
                </a:solidFill>
                <a:latin typeface="Trebuchet MS"/>
              </a:rPr>
              <a:t>Процесс приведения организационной культуры в соответствие со стратегией фирмы</a:t>
            </a:r>
            <a:endParaRPr b="0" lang="en-US" sz="29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личительная особенность «великих компаний» — симбиоз деловой стратегии и корпоративной культу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2" descr="Q:\Инна\В Г У Э С\Лекции\Стратегический менеджмент - бакалавры\media\image7.png"/>
          <p:cNvPicPr/>
          <p:nvPr/>
        </p:nvPicPr>
        <p:blipFill>
          <a:blip r:embed="rId1"/>
          <a:stretch/>
        </p:blipFill>
        <p:spPr>
          <a:xfrm>
            <a:off x="304920" y="2146320"/>
            <a:ext cx="8321400" cy="2357280"/>
          </a:xfrm>
          <a:prstGeom prst="rect">
            <a:avLst/>
          </a:prstGeom>
          <a:ln w="0">
            <a:noFill/>
          </a:ln>
        </p:spPr>
      </p:pic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3:11:31Z</dcterms:created>
  <dc:creator>Инна</dc:creator>
  <dc:description/>
  <dc:language>en-US</dc:language>
  <cp:lastModifiedBy>Толя</cp:lastModifiedBy>
  <dcterms:modified xsi:type="dcterms:W3CDTF">2014-12-01T07:21:20Z</dcterms:modified>
  <cp:revision>12</cp:revision>
  <dc:subject/>
  <dc:title>Theme 9</dc:title>
</cp:coreProperties>
</file>